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AAD-EABF-45BF-9E4E-D6C5F439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FBA-ACD1-4529-A235-4005905B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0DE-6ABA-4CCD-BC01-E18F49D0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874-D447-4657-900D-7ADC0F4D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750D-4A08-4992-8B97-83863360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F822-040C-4A12-8552-B3C9E37C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E770-B3AD-420E-AD34-7389DBE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FDDD-4C2E-4DA9-974C-BCCE0AA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91A-16FF-48C1-BA78-AB8D1BB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27D-F4EA-4843-AF36-4B9BA011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3F7D-93B9-48D0-8745-3602747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D41-BC72-4A62-8843-8EABE4D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E09-EE60-41D0-BBAA-E6CE437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F81-D150-4F2F-95A7-81C59C4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7EB-7AE6-4590-A2C1-060C57E7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E6BC-3400-412C-AD98-09E751E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958-0F18-4CD5-ADA0-2591EC4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85B-08BA-49F6-A4AA-6CF4D621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01D-1DD5-4962-944D-44CD32B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76E-8B7E-4536-9989-69C5E2C0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0E7-4D23-47B4-B0C8-728102C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5FC-2215-40F1-BD7A-B560FDD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48E-2419-4A9D-B060-B6BC00C6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61E-420F-4FF4-9519-EAFD54B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0B8-008E-43FF-AE79-55380D8BBAE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CB2-433C-488A-883A-C1D685BC790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taufdraht.at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Cyber-Mobb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V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Haischberger Simo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u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Steininger Kev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Cyber-Mobbing is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Absichtliches und meist länger andauerndes Beleidigen, Bedrohen, Bloßstellen, Belästigen anderer über digitale Medien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Vor allem im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Internet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(Soziale Netzwerke, Chats, Messenger, E-Mails) oder per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Hand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Attacken von Personen aus eigenem Umfel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und um die Uhr, meistens zuhau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rüchte verbreiten sich schnel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(Scheinbar) anonym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Opfer = Täter (Gegenattacke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set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ccff"/>
                </a:solidFill>
                <a:latin typeface="Arial"/>
              </a:rPr>
              <a:t>Kein dummer Streich/Kavalliersdelikt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ccff"/>
                </a:solidFill>
                <a:latin typeface="Arial"/>
              </a:rPr>
              <a:t>Stalking seit 2006 in Österreich strafbar</a:t>
            </a:r>
            <a:r>
              <a:rPr b="1" lang="de-DE" sz="3200" spc="-1" strike="noStrike">
                <a:solidFill>
                  <a:srgbClr val="99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ccff"/>
                </a:solidFill>
                <a:latin typeface="Arial"/>
              </a:rPr>
              <a:t>Urheberrechtsgesetz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ccff"/>
                </a:solidFill>
                <a:latin typeface="Arial"/>
              </a:rPr>
              <a:t>Jugendschutzgeset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terstützung und Berat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147 Rat auf Draht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</a:rPr>
              <a:t>: Kostenloser, anonymer 24h-Notruf für Kinder, Jugendliche und deren Bezugspersonen (Nummer 147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Online-Beratu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it Beteiligten red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Eltern einbind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der Schule thematisier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nke für eure Aufmerksamke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44355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0:18:04Z</dcterms:created>
  <dc:creator>BG/BRG</dc:creator>
  <dc:description/>
  <dc:language>en-US</dc:language>
  <cp:lastModifiedBy>BG/BRG</cp:lastModifiedBy>
  <dcterms:modified xsi:type="dcterms:W3CDTF">2013-09-19T09:30:11Z</dcterms:modified>
  <cp:revision>5</cp:revision>
  <dc:subject/>
  <dc:title>Cyber-Mobbing</dc:title>
</cp:coreProperties>
</file>